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8251-EF93-4EBA-A4C6-75212BA0B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E874-427A-4052-B91F-28D8AC94E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C892-6C5B-4B58-9A12-78D3BA759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068E-2DB1-49A0-B3AC-6936DB9A7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E662B-7F29-4B00-BF0F-41FA477A9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3D4C8-569F-4E51-9A4B-DAF1B1A49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97391-1D88-42E8-B0A5-F4C99D72D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603E9-D278-479A-A3EB-03BB561B8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C279E-DB5E-4950-9BCA-072265FE6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42CCE-1C96-4B52-9AEF-629A459AB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C7CA5-0E55-404F-8064-5795CF38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45DD-4281-4C1D-B0BF-00EBE79E2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E3A63-D94A-4D44-A681-93BD95CE2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3C0AC-486C-4E5F-AA34-890812ABB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CBC96-1486-4ADE-8658-0771CC7D3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3B68B-E82F-4E53-A8AB-2EFCF4B77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A16F8-5FA6-46BA-9DD9-AA939C97A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F118-242D-49FD-85DB-A930C2677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E864-5D4A-4FCD-97F0-3686E2BB2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E8E8-2713-4814-9BC6-C1D8E9707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8E35-D005-4330-A7F6-A63BADF66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6BFA-5057-4989-90D5-076139756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6867-1D03-4A94-BFB5-E9C0866F5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D61D-CD79-4722-8BF8-10B6EFD53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4538520" y="6746760"/>
            <a:ext cx="4332600" cy="65160"/>
            <a:chOff x="4538520" y="6746760"/>
            <a:chExt cx="4332600" cy="65160"/>
          </a:xfrm>
        </p:grpSpPr>
        <p:sp>
          <p:nvSpPr>
            <p:cNvPr id="3" name=""/>
            <p:cNvSpPr/>
            <p:nvPr/>
          </p:nvSpPr>
          <p:spPr>
            <a:xfrm>
              <a:off x="4538520" y="6746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148360" y="6746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57840" y="6746760"/>
              <a:ext cx="651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367320" y="6746760"/>
              <a:ext cx="651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977160" y="6746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586640" y="6746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196120" y="6746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805960" y="6746760"/>
              <a:ext cx="651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804960" y="117360"/>
            <a:ext cx="66600" cy="522360"/>
            <a:chOff x="804960" y="117360"/>
            <a:chExt cx="66600" cy="522360"/>
          </a:xfrm>
        </p:grpSpPr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20415-9756-48DC-BDF1-8F561D5A45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0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880920" y="117360"/>
              <a:ext cx="66960" cy="2124360"/>
              <a:chOff x="880920" y="117360"/>
              <a:chExt cx="66960" cy="2124360"/>
            </a:xfrm>
          </p:grpSpPr>
          <p:sp>
            <p:nvSpPr>
              <p:cNvPr id="69" name=""/>
              <p:cNvSpPr/>
              <p:nvPr/>
            </p:nvSpPr>
            <p:spPr>
              <a:xfrm>
                <a:off x="880920" y="117360"/>
                <a:ext cx="66960" cy="669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80920" y="347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80920" y="5745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880920" y="10335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80920" y="1260360"/>
                <a:ext cx="66960" cy="669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0920" y="1490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80920" y="17175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920" y="1947960"/>
                <a:ext cx="66960" cy="633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880920" y="21765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80920" y="804960"/>
                <a:ext cx="66960" cy="633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9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80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AF0E8-C3EE-4338-92F0-B2370BF513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bcbcb"/>
                </a:solidFill>
                <a:latin typeface="Times New Roman"/>
              </a:rPr>
              <a:t>SABER vs. </a:t>
            </a:r>
            <a:br>
              <a:rPr sz="6600"/>
            </a:br>
            <a:r>
              <a:rPr b="0" lang="en-US" sz="6600" spc="-1" strike="noStrike">
                <a:solidFill>
                  <a:srgbClr val="cbcbcb"/>
                </a:solidFill>
                <a:latin typeface="Times New Roman"/>
              </a:rPr>
              <a:t>CONOCER</a:t>
            </a:r>
            <a:endParaRPr b="0" lang="en-US" sz="6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age 14 – Lección Prelimina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vancemos 3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bcbcb"/>
                </a:solidFill>
                <a:latin typeface="Times New Roman"/>
              </a:rPr>
              <a:t>SABER vs. CONOCER</a:t>
            </a:r>
            <a:endParaRPr b="0" lang="en-US" sz="5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33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330099"/>
                </a:solidFill>
                <a:latin typeface="Times New Roman"/>
              </a:rPr>
              <a:t>Conocemos</a:t>
            </a: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 al Dr. Fernández y a toda su familia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¿</a:t>
            </a:r>
            <a:r>
              <a:rPr b="1" lang="en-US" sz="4800" spc="-1" strike="noStrike">
                <a:solidFill>
                  <a:srgbClr val="330099"/>
                </a:solidFill>
                <a:latin typeface="Times New Roman"/>
              </a:rPr>
              <a:t>Conocen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Uds. el jardín zoológico de Mérida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8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3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bcbcb"/>
                </a:solidFill>
                <a:latin typeface="Times New Roman"/>
              </a:rPr>
              <a:t>The Verb CONOCER</a:t>
            </a:r>
            <a:endParaRPr b="0" lang="en-US" sz="5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Remember the personal “a”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onozco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María Teresa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onoces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ellas?  Si las conozco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onozco Madrid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y is it not used above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0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5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0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5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0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bcbcb"/>
                </a:solidFill>
                <a:latin typeface="Times New Roman"/>
              </a:rPr>
              <a:t>The Verb CONOCER</a:t>
            </a:r>
            <a:endParaRPr b="0" lang="en-US" sz="5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Times New Roman"/>
              </a:rPr>
              <a:t>Conocer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is followed by the personal a when the direct object is a person. 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irect object pronouns can also be used with </a:t>
            </a:r>
            <a:r>
              <a:rPr b="0" i="1" lang="en-US" sz="4800" spc="-1" strike="noStrike">
                <a:solidFill>
                  <a:srgbClr val="ffffff"/>
                </a:solidFill>
                <a:latin typeface="Times New Roman"/>
              </a:rPr>
              <a:t>conocer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7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2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bcbcb"/>
                </a:solidFill>
                <a:latin typeface="Times New Roman"/>
              </a:rPr>
              <a:t>The Verb CONOCER</a:t>
            </a:r>
            <a:endParaRPr b="0" lang="en-US" sz="5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¿Conocen Uds. </a:t>
            </a:r>
            <a:r>
              <a:rPr b="1" lang="en-US" sz="4800" spc="-1" strike="noStrike">
                <a:solidFill>
                  <a:srgbClr val="ff9933"/>
                </a:solidFill>
                <a:latin typeface="Times New Roman"/>
              </a:rPr>
              <a:t>a la señora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que trabaja en el laboratorio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i, </a:t>
            </a:r>
            <a:r>
              <a:rPr b="1" lang="en-US" sz="4800" spc="-1" strike="noStrike">
                <a:solidFill>
                  <a:srgbClr val="ff9933"/>
                </a:solidFill>
                <a:latin typeface="Times New Roman"/>
              </a:rPr>
              <a:t>la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conocemos bien.  ¿Quieres </a:t>
            </a:r>
            <a:r>
              <a:rPr b="1" lang="en-US" sz="4800" spc="-1" strike="noStrike">
                <a:solidFill>
                  <a:srgbClr val="ff9933"/>
                </a:solidFill>
                <a:latin typeface="Times New Roman"/>
              </a:rPr>
              <a:t>conocerla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9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4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bcbcb"/>
                </a:solidFill>
                <a:latin typeface="Times New Roman"/>
              </a:rPr>
              <a:t>SABER vs. CONOCER</a:t>
            </a:r>
            <a:endParaRPr b="0" lang="en-US" sz="5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In the preterite, conocer means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to meet someone for the fi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st time”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1100"/>
              </a:spcBef>
              <a:buClr>
                <a:srgbClr val="33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0099"/>
                </a:solidFill>
                <a:latin typeface="Times New Roman"/>
              </a:rPr>
              <a:t>Conocí</a:t>
            </a: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 a dos cr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íticos que trabajan para el periódico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¿Los </a:t>
            </a:r>
            <a:r>
              <a:rPr b="1" lang="en-US" sz="4400" spc="-1" strike="noStrike">
                <a:solidFill>
                  <a:srgbClr val="330099"/>
                </a:solidFill>
                <a:latin typeface="Times New Roman"/>
              </a:rPr>
              <a:t>conociste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en la conferencia de ay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1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6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1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bcbcb"/>
                </a:solidFill>
                <a:latin typeface="Times New Roman"/>
              </a:rPr>
              <a:t>SABER</a:t>
            </a:r>
            <a:endParaRPr b="0" lang="en-US" sz="5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1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SABER means…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1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o Know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1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We use SABER to talk about knowing facts or information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bcbcb"/>
                </a:solidFill>
                <a:latin typeface="Times New Roman"/>
              </a:rPr>
              <a:t>SABER - present</a:t>
            </a:r>
            <a:endParaRPr b="0" lang="en-US" sz="6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Yo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ú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ab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É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lla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ab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Ud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343040" y="152388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osotros      sab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em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Vosotros      sab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éi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ll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llas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 sab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e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Ud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267080" y="1752480"/>
            <a:ext cx="0" cy="42674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3048120" y="2209680"/>
            <a:ext cx="304560" cy="533520"/>
          </a:xfrm>
          <a:prstGeom prst="line">
            <a:avLst/>
          </a:prstGeom>
          <a:ln cap="sq"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81080" y="3962520"/>
            <a:ext cx="152640" cy="1752480"/>
          </a:xfrm>
          <a:custGeom>
            <a:avLst/>
            <a:gdLst>
              <a:gd name="textAreaLeft" fmla="*/ 0 w 152640"/>
              <a:gd name="textAreaRight" fmla="*/ 55080 w 15264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95880" y="3962520"/>
            <a:ext cx="152640" cy="1752480"/>
          </a:xfrm>
          <a:custGeom>
            <a:avLst/>
            <a:gdLst>
              <a:gd name="textAreaLeft" fmla="*/ 0 w 152640"/>
              <a:gd name="textAreaRight" fmla="*/ 55080 w 15264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bcbcb"/>
                </a:solidFill>
                <a:latin typeface="Times New Roman"/>
              </a:rPr>
              <a:t>SABER - preterite</a:t>
            </a:r>
            <a:endParaRPr b="0" lang="en-US" sz="6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Yo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up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ú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upis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É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lla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up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Ud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343040" y="152388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osotros      supim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Vosotros      supistei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ll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llas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 supier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Ud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267080" y="1752480"/>
            <a:ext cx="0" cy="42674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81080" y="3962520"/>
            <a:ext cx="152640" cy="1752480"/>
          </a:xfrm>
          <a:custGeom>
            <a:avLst/>
            <a:gdLst>
              <a:gd name="textAreaLeft" fmla="*/ 0 w 152640"/>
              <a:gd name="textAreaRight" fmla="*/ 55080 w 15264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5880" y="3962520"/>
            <a:ext cx="152640" cy="1752480"/>
          </a:xfrm>
          <a:custGeom>
            <a:avLst/>
            <a:gdLst>
              <a:gd name="textAreaLeft" fmla="*/ 0 w 152640"/>
              <a:gd name="textAreaRight" fmla="*/ 55080 w 15264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1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6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bcbcb"/>
                </a:solidFill>
                <a:latin typeface="Times New Roman"/>
              </a:rPr>
              <a:t>SABER</a:t>
            </a:r>
            <a:endParaRPr b="0" lang="en-US" sz="5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Nadie </a:t>
            </a:r>
            <a:r>
              <a:rPr b="1" lang="en-US" sz="4800" spc="-1" strike="noStrike">
                <a:solidFill>
                  <a:srgbClr val="330099"/>
                </a:solidFill>
                <a:latin typeface="Times New Roman"/>
              </a:rPr>
              <a:t>sabe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la fecha del examen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¿</a:t>
            </a:r>
            <a:r>
              <a:rPr b="1" lang="en-US" sz="4800" spc="-1" strike="noStrike">
                <a:solidFill>
                  <a:srgbClr val="330099"/>
                </a:solidFill>
                <a:latin typeface="Times New Roman"/>
              </a:rPr>
              <a:t>Saben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Uds. Quién es ese actor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3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8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bcbcb"/>
                </a:solidFill>
                <a:latin typeface="Times New Roman"/>
              </a:rPr>
              <a:t>SABER</a:t>
            </a:r>
            <a:endParaRPr b="0" lang="en-US" sz="5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aber followed by an infinitive means “to know how.”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or supuesto, yo </a:t>
            </a:r>
            <a:r>
              <a:rPr b="1" lang="en-US" sz="4400" spc="-1" strike="noStrike">
                <a:solidFill>
                  <a:srgbClr val="330099"/>
                </a:solidFill>
                <a:latin typeface="Times New Roman"/>
              </a:rPr>
              <a:t>sé usar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la computadora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No, mi hermanito no </a:t>
            </a:r>
            <a:r>
              <a:rPr b="1" lang="es-ES" sz="4400" spc="-1" strike="noStrike">
                <a:solidFill>
                  <a:srgbClr val="330099"/>
                </a:solidFill>
                <a:latin typeface="Times New Roman"/>
              </a:rPr>
              <a:t>sabe manejar</a:t>
            </a: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5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0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bcbcb"/>
                </a:solidFill>
                <a:latin typeface="Times New Roman"/>
              </a:rPr>
              <a:t>SABER vs. CONOCER</a:t>
            </a:r>
            <a:endParaRPr b="0" lang="en-US" sz="5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Times New Roman"/>
              </a:rPr>
              <a:t>Conocer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means “to know” in the sense of being acquainted or familiar with a person, place, or thing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2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bcbcb"/>
                </a:solidFill>
                <a:latin typeface="Times New Roman"/>
              </a:rPr>
              <a:t>CONOCER (To Know)</a:t>
            </a:r>
            <a:endParaRPr b="0" lang="en-US" sz="5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4419360" cy="413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yo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conozc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ú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conoc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él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conoc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ll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343400" y="182844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sotros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conoc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em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Vosotros    conocé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d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llos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conoc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e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ll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114800" y="1981080"/>
            <a:ext cx="0" cy="4419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2895120" y="2361960"/>
            <a:ext cx="304920" cy="609480"/>
          </a:xfrm>
          <a:prstGeom prst="line">
            <a:avLst/>
          </a:prstGeom>
          <a:ln cap="sq"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676520" y="4495680"/>
            <a:ext cx="457200" cy="1752840"/>
          </a:xfrm>
          <a:custGeom>
            <a:avLst/>
            <a:gdLst>
              <a:gd name="textAreaLeft" fmla="*/ 0 w 457200"/>
              <a:gd name="textAreaRight" fmla="*/ 164880 w 457200"/>
              <a:gd name="textAreaTop" fmla="*/ 0 h 1752840"/>
              <a:gd name="textAreaBottom" fmla="*/ 17532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638680" y="4572000"/>
            <a:ext cx="533520" cy="1752480"/>
          </a:xfrm>
          <a:custGeom>
            <a:avLst/>
            <a:gdLst>
              <a:gd name="textAreaLeft" fmla="*/ 0 w 533520"/>
              <a:gd name="textAreaRight" fmla="*/ 192600 w 53352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9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4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9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4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9" dur="5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9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4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9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4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9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bcbcb"/>
                </a:solidFill>
                <a:latin typeface="Times New Roman"/>
              </a:rPr>
              <a:t>CONOCER (preterite)</a:t>
            </a:r>
            <a:endParaRPr b="0" lang="en-US" sz="5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4419360" cy="413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yo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conoc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í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ú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conoc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is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él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conoc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ió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ll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343400" y="182844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sotros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conoc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im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Vosotros   conociste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d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llos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conoc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ier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ll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114800" y="1981080"/>
            <a:ext cx="0" cy="4419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676520" y="4495680"/>
            <a:ext cx="457200" cy="1752840"/>
          </a:xfrm>
          <a:custGeom>
            <a:avLst/>
            <a:gdLst>
              <a:gd name="textAreaLeft" fmla="*/ 0 w 457200"/>
              <a:gd name="textAreaRight" fmla="*/ 164880 w 457200"/>
              <a:gd name="textAreaTop" fmla="*/ 0 h 1752840"/>
              <a:gd name="textAreaBottom" fmla="*/ 17532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638680" y="4572000"/>
            <a:ext cx="533520" cy="1752480"/>
          </a:xfrm>
          <a:custGeom>
            <a:avLst/>
            <a:gdLst>
              <a:gd name="textAreaLeft" fmla="*/ 0 w 533520"/>
              <a:gd name="textAreaRight" fmla="*/ 192600 w 53352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1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6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1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6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1" dur="5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1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6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1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6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1" dur="5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6T21:31:00Z</dcterms:created>
  <dc:creator>NIHS</dc:creator>
  <dc:description/>
  <dc:language>en-US</dc:language>
  <cp:lastModifiedBy>Local User</cp:lastModifiedBy>
  <dcterms:modified xsi:type="dcterms:W3CDTF">2009-08-24T18:04:55Z</dcterms:modified>
  <cp:revision>8</cp:revision>
  <dc:subject/>
  <dc:title>No Slide Title</dc:title>
</cp:coreProperties>
</file>